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17E8-91DA-481D-87E1-715CCB25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DB60-BCF5-46EA-91B4-7AA7D729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5197-382D-4A54-9A8A-F39B9E7A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9861-C05D-4D0E-8E24-3ECFE6B6A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E061-3D69-4C7D-9F6B-68C69048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9538-EFEB-465D-A0E0-59E28CE8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E516-F49D-4ADD-9602-EA596B5C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275A-5740-4BF3-9D59-C0D36195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7B8E-52EC-47A2-A11B-09FCC7F0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6AC7-43F4-4964-9FEA-FED8FB30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5F2C-64F6-4E7D-9CB2-C7C707D0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A2B1-7472-409F-84BE-9B0050BB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B60D-6AF9-49B9-AA8E-6A44EA1C24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9720" y="2362320"/>
            <a:ext cx="39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Risk Rati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3886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66680" y="4648320"/>
            <a:ext cx="71629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3886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066680" y="4648320"/>
            <a:ext cx="7162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391520" cy="1184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5800" y="2514600"/>
            <a:ext cx="73915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248520" cy="1076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43000" y="2362320"/>
            <a:ext cx="6248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086600" cy="1371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70102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705720" cy="1076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066680" y="2895480"/>
            <a:ext cx="6705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086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4191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971080" y="457200"/>
            <a:ext cx="275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410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3080" y="5791320"/>
            <a:ext cx="167652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1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7816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9T17:30:12Z</dcterms:modified>
  <cp:revision>204</cp:revision>
  <dc:subject/>
  <dc:title>Slide 1</dc:title>
</cp:coreProperties>
</file>